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017A-B546-42AA-A187-A04F3DCD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ED9-641B-45A3-AC80-4C62456F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8A2-B0F7-4D27-8D1E-48D917F9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E3CF-523B-4223-84BF-84C6018D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56AB-A61D-4BB9-8FD6-388F999B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F6A6-F4A7-43AE-B7B9-8207A859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80CE-2390-442A-9127-A86605F4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5143-2AC3-4503-980A-68B4A586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6B21-8BB0-4E5E-8C13-2BD64D04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B01E-3088-4CD8-8FB2-74CCB23E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A5DD-6455-4718-8E2C-CDC9EB9C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EDA-0D39-4FA3-8A10-8587E167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9C8F-5123-4AC5-B57B-D8489465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4857-7B24-41D5-A4B7-A5D97F0E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AEF8-0443-41F3-8008-1590DD71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9C08-25EE-42D6-866E-89DDE5F8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C458-738F-4EFF-93F8-525A7D37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210-3496-4D51-994E-A66D413D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443-45EB-4BC4-A6F3-086F169D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E5A-89AB-47DE-9359-7CFE6756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A5E-2736-4C79-8178-117D5625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10D-EA9B-4D18-92E3-919FE9BC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A8E-383F-4C46-A598-A201F73B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DA4-BA00-4B58-A28C-C58DF421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91F5-E094-4961-AB7C-7D7B01D66BF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2F7C-D7D1-4B9E-BFA3-D135EA098F1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350.WAV" TargetMode="External"/><Relationship Id="rId2" Type="http://schemas.microsoft.com/office/2007/relationships/media" Target="file:///tmp/home/.config/libreoffice/4/user/gallery/~PP135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58.WAV" TargetMode="External"/><Relationship Id="rId2" Type="http://schemas.microsoft.com/office/2007/relationships/media" Target="file:///tmp/home/.config/libreoffice/4/user/gallery/~PP5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230.WAV" TargetMode="External"/><Relationship Id="rId2" Type="http://schemas.microsoft.com/office/2007/relationships/media" Target="file:///tmp/home/.config/libreoffice/4/user/gallery/~PP123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29.WAV" TargetMode="External"/><Relationship Id="rId2" Type="http://schemas.microsoft.com/office/2007/relationships/media" Target="file:///tmp/home/.config/libreoffice/4/user/gallery/~PP729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fa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uld you like some tea, grandpa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andpa, would you like some tea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gar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57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uld you also like a piece of cake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60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fa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uld you like some tea, grandpa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What?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andpa, would you like some tea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Yes, please!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indefinite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3" dur="indefinite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1" dur="indefinite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gar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No!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indefinite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4" dur="indefinite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2" dur="indefinite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aching Pronunci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rking with Inton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alking to your grandmother who has a hearing proble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ould you also like a piece of cake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mm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(Yes, I’d love to!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indefinite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indefinite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5" dur="indefinite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9" dur="indefinite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5:37:15Z</dcterms:created>
  <dc:creator> </dc:creator>
  <dc:description/>
  <dc:language>en-US</dc:language>
  <cp:lastModifiedBy> </cp:lastModifiedBy>
  <dcterms:modified xsi:type="dcterms:W3CDTF">2006-03-02T16:32:59Z</dcterms:modified>
  <cp:revision>3</cp:revision>
  <dc:subject/>
  <dc:title>Teaching Pronunciation</dc:title>
</cp:coreProperties>
</file>